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BCDF-2DAB-491B-B9CF-E740384990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1B96-9A15-4828-ADFD-DA565FAE0A33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4F20-6EB0-4A22-9124-57D1A044C03D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A6FC-80B9-432F-B0DE-031D2D8D6D60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C9F6-66B4-42B9-B2B0-5C39EC20C331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F00D-2DF1-49F6-A3BE-739B30D4EDC1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0F42-5528-4B35-A2BC-361CA2481D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C8EF-8AB2-43D8-8A5C-CABB39EB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D2B9-BCCD-4FFB-939F-370289B9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7C0B-EC3A-4544-8FCF-D57E0ED3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67DE-C02C-40A2-A4B6-871251F78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881E-3A7F-494B-8EE0-4100ABF1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051A-AC7C-4870-A28D-BF6CB609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A4E0-2BD1-4C2F-A382-8C6302D1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2A06-3132-457D-8AB6-B53B9F65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060C-B0AE-46FA-A06B-B5B2B81D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96E1-5CFD-4A0A-8B6F-030BD2F6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51EF-83C7-4D7E-A72C-8F7B634B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CC3A-BCCF-42E1-9A34-AA59F832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73BB-0405-42F6-9444-C31FCBC2F4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декабрь, 2020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10715760" y="136440"/>
            <a:ext cx="147636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679320" y="264636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58760"/>
                <a:gridCol w="830520"/>
                <a:gridCol w="83160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88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Заголовок 1"/>
          <p:cNvSpPr/>
          <p:nvPr/>
        </p:nvSpPr>
        <p:spPr>
          <a:xfrm>
            <a:off x="495360" y="2309760"/>
            <a:ext cx="787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ая выноска 4"/>
          <p:cNvSpPr/>
          <p:nvPr/>
        </p:nvSpPr>
        <p:spPr>
          <a:xfrm>
            <a:off x="9261360" y="364500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ая выноска 2"/>
          <p:cNvSpPr/>
          <p:nvPr/>
        </p:nvSpPr>
        <p:spPr>
          <a:xfrm>
            <a:off x="5246640" y="5114880"/>
            <a:ext cx="2397240" cy="156528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803160" y="1927080"/>
          <a:ext cx="10833120" cy="387540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47600"/>
                <a:gridCol w="841320"/>
                <a:gridCol w="83196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</a:tbl>
          </a:graphicData>
        </a:graphic>
      </p:graphicFrame>
      <p:sp>
        <p:nvSpPr>
          <p:cNvPr id="94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ая выноска 3"/>
          <p:cNvSpPr/>
          <p:nvPr/>
        </p:nvSpPr>
        <p:spPr>
          <a:xfrm>
            <a:off x="1771560" y="5533920"/>
            <a:ext cx="2281320" cy="1262160"/>
          </a:xfrm>
          <a:prstGeom prst="wedgeRectCallout">
            <a:avLst>
              <a:gd name="adj1" fmla="val 211666"/>
              <a:gd name="adj2" fmla="val -94611"/>
            </a:avLst>
          </a:prstGeom>
          <a:solidFill>
            <a:srgbClr val="c9c9c9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ая выноска 4"/>
          <p:cNvSpPr/>
          <p:nvPr/>
        </p:nvSpPr>
        <p:spPr>
          <a:xfrm>
            <a:off x="9664560" y="3863880"/>
            <a:ext cx="2281320" cy="1262160"/>
          </a:xfrm>
          <a:prstGeom prst="wedgeRectCallout">
            <a:avLst>
              <a:gd name="adj1" fmla="val -89388"/>
              <a:gd name="adj2" fmla="val 42240"/>
            </a:avLst>
          </a:prstGeom>
          <a:solidFill>
            <a:srgbClr val="92d05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1" descr=""/>
          <p:cNvPicPr/>
          <p:nvPr/>
        </p:nvPicPr>
        <p:blipFill>
          <a:blip r:embed="rId2"/>
          <a:stretch/>
        </p:blipFill>
        <p:spPr>
          <a:xfrm>
            <a:off x="8570880" y="5454720"/>
            <a:ext cx="28717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533520" y="228600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6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ВИЧ-ИНФЕКЦИИ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беременных женщин, всего) –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женщин, завершивших беременность родами в отчетном году) &gt;= 13,1000,ст1,гр11+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ая выноска 3"/>
          <p:cNvSpPr/>
          <p:nvPr/>
        </p:nvSpPr>
        <p:spPr>
          <a:xfrm>
            <a:off x="9272520" y="1866960"/>
            <a:ext cx="2360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1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2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ст1,гр11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  <p:pic>
        <p:nvPicPr>
          <p:cNvPr id="53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1994040"/>
            <a:ext cx="8480520" cy="3668400"/>
          </a:xfrm>
          <a:prstGeom prst="rect">
            <a:avLst/>
          </a:prstGeom>
          <a:ln w="0">
            <a:noFill/>
          </a:ln>
        </p:spPr>
      </p:pic>
      <p:sp>
        <p:nvSpPr>
          <p:cNvPr id="54" name="Заголовок 1"/>
          <p:cNvSpPr/>
          <p:nvPr/>
        </p:nvSpPr>
        <p:spPr>
          <a:xfrm>
            <a:off x="2104920" y="5722920"/>
            <a:ext cx="8772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чет включаются сведения обо всех прерываниях беременности в сроки до 22 недель, независимо от метода и места прерывания беремен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2200" y="420840"/>
            <a:ext cx="784548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4" descr=""/>
          <p:cNvPicPr/>
          <p:nvPr/>
        </p:nvPicPr>
        <p:blipFill>
          <a:blip r:embed="rId1"/>
          <a:stretch/>
        </p:blipFill>
        <p:spPr>
          <a:xfrm>
            <a:off x="1962000" y="1841400"/>
            <a:ext cx="7993080" cy="4005360"/>
          </a:xfrm>
          <a:prstGeom prst="rect">
            <a:avLst/>
          </a:prstGeom>
          <a:ln w="0">
            <a:noFill/>
          </a:ln>
        </p:spPr>
      </p:pic>
      <p:sp>
        <p:nvSpPr>
          <p:cNvPr id="57" name="Нижний колонтитул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2"/>
          <a:stretch/>
        </p:blipFill>
        <p:spPr>
          <a:xfrm>
            <a:off x="10603080" y="136440"/>
            <a:ext cx="15890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0" name="Группа 13"/>
          <p:cNvGrpSpPr/>
          <p:nvPr/>
        </p:nvGrpSpPr>
        <p:grpSpPr>
          <a:xfrm>
            <a:off x="654120" y="1471680"/>
            <a:ext cx="10101240" cy="4957560"/>
            <a:chOff x="654120" y="1471680"/>
            <a:chExt cx="10101240" cy="4957560"/>
          </a:xfrm>
        </p:grpSpPr>
        <p:pic>
          <p:nvPicPr>
            <p:cNvPr id="61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1471680"/>
              <a:ext cx="10101240" cy="49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5"/>
            <p:cNvSpPr/>
            <p:nvPr/>
          </p:nvSpPr>
          <p:spPr>
            <a:xfrm>
              <a:off x="834120" y="2219040"/>
              <a:ext cx="9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Box 7"/>
            <p:cNvSpPr/>
            <p:nvPr/>
          </p:nvSpPr>
          <p:spPr>
            <a:xfrm>
              <a:off x="1253880" y="362556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Box 12"/>
            <p:cNvSpPr/>
            <p:nvPr/>
          </p:nvSpPr>
          <p:spPr>
            <a:xfrm>
              <a:off x="871920" y="5154840"/>
              <a:ext cx="11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  <p:sp>
        <p:nvSpPr>
          <p:cNvPr id="67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38080" y="2507760"/>
            <a:ext cx="10515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 показывает число женщин, умерших от прерывания беременности (O02 - O06) всего (графа 1), из них в сроки: до 12 недель (графа 2), с 12 до 22 недель (графа 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11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1653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" descr=""/>
          <p:cNvPicPr/>
          <p:nvPr/>
        </p:nvPicPr>
        <p:blipFill>
          <a:blip r:embed="rId2"/>
          <a:stretch/>
        </p:blipFill>
        <p:spPr>
          <a:xfrm>
            <a:off x="739800" y="681120"/>
            <a:ext cx="934560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838080" y="1690560"/>
            <a:ext cx="105156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абортов по медицинским показаниям включаются аборты, проведенные при угрозе состоянию здоровья женщины или по показаниям со стороны плода, независимо от метода опер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других видов абортов (криминальных) включаются случаи, когда установлено вмешательство с целью прерывания беременности самой беременной или другими лицами вне лечебной орг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неуточненных (внебольничных) абортов включаются случаи, когда не выявлено достаточных данных, позволяющих судить о характере аборта (спонтанном прерывании беременности или имевшем место вмешательстве с целью ее прерыван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Международной классификации болезней 10-го пересмотра и правилам кодирования "неудачная попытка аборта (O07)" включает случаи, когда процедура искусственного прерывания беременности, в том числе по медицинским показаниям, была выполнена, но оказалась безуспешной, и развитие плода продолжило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11" descr=""/>
          <p:cNvPicPr/>
          <p:nvPr/>
        </p:nvPicPr>
        <p:blipFill>
          <a:blip r:embed="rId1"/>
          <a:stretch/>
        </p:blipFill>
        <p:spPr>
          <a:xfrm>
            <a:off x="10709280" y="136440"/>
            <a:ext cx="1482840" cy="1152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9514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4" descr=""/>
          <p:cNvPicPr/>
          <p:nvPr/>
        </p:nvPicPr>
        <p:blipFill>
          <a:blip r:embed="rId1"/>
          <a:stretch/>
        </p:blipFill>
        <p:spPr>
          <a:xfrm>
            <a:off x="727200" y="561960"/>
            <a:ext cx="9443880" cy="12636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105 отражаются осложнения, вызванные абортом (из строки 1 графы 4 таблицы 1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105 отражаются осложнения, вызванные абортом (из строки 1 графы 4 таблицы 2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11" descr=""/>
          <p:cNvPicPr/>
          <p:nvPr/>
        </p:nvPicPr>
        <p:blipFill>
          <a:blip r:embed="rId2"/>
          <a:stretch/>
        </p:blipFill>
        <p:spPr>
          <a:xfrm>
            <a:off x="10566360" y="136440"/>
            <a:ext cx="16257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"/>
          <p:cNvPicPr/>
          <p:nvPr/>
        </p:nvPicPr>
        <p:blipFill>
          <a:blip r:embed="rId1"/>
          <a:stretch/>
        </p:blipFill>
        <p:spPr>
          <a:xfrm>
            <a:off x="1609560" y="466560"/>
            <a:ext cx="8972640" cy="59248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1" descr=""/>
          <p:cNvPicPr/>
          <p:nvPr/>
        </p:nvPicPr>
        <p:blipFill>
          <a:blip r:embed="rId2"/>
          <a:stretch/>
        </p:blipFill>
        <p:spPr>
          <a:xfrm>
            <a:off x="10632960" y="136440"/>
            <a:ext cx="155916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82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Елена Александровна Бронникова</cp:lastModifiedBy>
  <cp:lastPrinted>2018-12-10T14:36:03Z</cp:lastPrinted>
  <dcterms:modified xsi:type="dcterms:W3CDTF">2020-12-09T01:47:18Z</dcterms:modified>
  <cp:revision>126</cp:revision>
  <dc:subject/>
  <dc:title>Презентация PowerPoint</dc:title>
</cp:coreProperties>
</file>